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1C50-E6AD-4E7E-AE69-EBE08E5B6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library.thinkquest.org/C004535/aerobic_respiratio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DABC-7B85-47CB-84B9-09F1FE682CF5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CBE2-144C-47BC-8897-9F11224F23F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www.emc.maricopa.edu/faculty/farabee/biobk/biobookglyc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E85C-AD72-4ED8-827E-136647E0257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9F48-AB92-4AF3-A443-83CB27DA503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age from: http://primawarta.blogspot.com/2009_08_01_archive.htm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itochondrial-disorder-information.com/what_is_mitochondria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1/02/cellular-respiration-glycolysis-pyruvate-kerbs-etc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FB7D-6FD8-4D81-BF6C-59B1BFC6491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B166-A219-413E-A03F-8535B9B1EA9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C1F-FF5C-45B4-A0B1-C4FC8A93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B63-EB52-4000-9CC8-ABAB4777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985-3E0A-43AD-86AC-FE2426C6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1D5-0D0F-4F97-B600-525B63EC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8570-4FE4-4CD9-86B4-B836649E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17F-F781-4E2B-973D-8112D5C5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BF2-F59F-469D-BA1A-BD224815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14A-AF62-4362-88C6-F68AA608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EA3-8964-47D8-B61D-A7FD62BE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B15-FA29-46B3-89DB-9427D1A6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E7FB-DA45-4B2B-8304-29A2F2DC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BCA-76DF-43FA-85AB-441E88A9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5ECC-FF7D-426E-8465-22AE395CE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krebs.html" TargetMode="External"/><Relationship Id="rId2" Type="http://schemas.openxmlformats.org/officeDocument/2006/relationships/hyperlink" Target="http://highered.mcgraw-hill.com/sites/0072507470/student_view0/chapter25/animation__how_the_krebs_cycle_works__quiz_1_.html" TargetMode="External"/><Relationship Id="rId3" Type="http://schemas.openxmlformats.org/officeDocument/2006/relationships/hyperlink" Target="http://highered.mcgraw-hill.com/sites/0072507470/student_view0/chapter25/animation__how_the_krebs_cycle_works__quiz_1_.html" TargetMode="External"/><Relationship Id="rId4" Type="http://schemas.openxmlformats.org/officeDocument/2006/relationships/hyperlink" Target="http://highered.mcgraw-hill.com/sites/0072507470/student_view0/chapter25/animation__how_the_krebs_cycle_works__quiz_1_.html" TargetMode="External"/><Relationship Id="rId5" Type="http://schemas.openxmlformats.org/officeDocument/2006/relationships/hyperlink" Target="http://highered.mcgraw-hill.com/sites/0072507470/student_view0/chapter25/animation__how_the_krebs_cycle_works__quiz_1_.html" TargetMode="External"/><Relationship Id="rId6" Type="http://schemas.openxmlformats.org/officeDocument/2006/relationships/hyperlink" Target="http://highered.mcgraw-hill.com/sites/0072507470/student_view0/chapter25/animation__how_the_krebs_cycle_works__quiz_1_.html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olcweb/cgi/pluginpop.cgi?it=swf::535::535::/sites/dl/free/0072437316/120071/bio11.swf::Electron%20Transport%20System%20and%20ATP%20Synthesi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itric Acid Cycle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718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rocesses:</a:t>
            </a:r>
            <a:br>
              <a:rPr sz="4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carboxylation (Reactions 3 &amp; 4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fferent reactions involve the removal of carbon a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240516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rocesses:</a:t>
            </a:r>
            <a:br>
              <a:rPr sz="4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xidation (Reactions 3, 4, 6, 8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toms (with their associated electrons) are transferred to a coenzy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3 cases, NAD+ is reduced to 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 case, FAD is reduced to FAD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240516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rocesses:</a:t>
            </a:r>
            <a:br>
              <a:rPr sz="4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ergy Production (Reaction 5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one of the reactions, ATP is generated by substrate-level phosphory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upled to a reaction which has a large amount of free energy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240516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xaloacetate is regenerated in the last st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ll 6 carbons from glucose have been oxidized to CO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ll of the energy from glucose is in the form of ATP, NADH and FADH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Krebs Cycle Overal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 acetyl CoA + 6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FAD + 2ADP + 2 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6 NADH + 6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FAD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AT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3886200" y="3276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27040" y="1981080"/>
            <a:ext cx="6288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eaction review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ce.smith.edu/departments/Biology/Bio231/kreb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&amp; Quiz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/highere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cgraw-hil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com/sites/0072507470/student_view0/chapter25/animation__how_the_krebs_cycle_works__quiz_1_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Questions (p.18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Glycolysis, pyruvate oxidation, and the citric acid cycle produce only a small amount of ATP from the energy in a glucose molecule.  What form(s) is the rest of the harvestable energy that is converted to ATP in the electron transport chain and chemiosm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ADH and FADH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Questions (p.18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Which stages of aerobic cellular respiration occur in the mitochondria, and which stages do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pyruvate oxidation, citric acid cycle,   ETC occur in the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glycolysis occurs in the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pyruv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whether oxygen is present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erob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iration) or not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aerob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18240" y="1981080"/>
            <a:ext cx="346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Questions (p.18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Write the overall chemical equation for each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ucose + 2 ADP + 2 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+ 2 NAD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------&gt;  2 pyruvate + 2 ATP + 2 NADH + 2 H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Questions (p.18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Write the overall chemical equation for each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yruvat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 pyruvate  +  2 NAD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+  2 CoA -----&gt;      2 acetyl CoA + 2 NADH + 2 H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+ 2 CO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Questions (p.18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Write the overall chemical equation for each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etyl CoA + 3 NAD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+ FAD + ADP + 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-----&gt; 3 NADH + 3 H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+ FADH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+ ATP + CoA + 2 CO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 of ET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’re confused about the Electron Transport Chain, this animation might hel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olcweb/cgi/pluginpop.cgi?it=swf::535::535::/sites/dl/free/0072437316/120071/bio11.swf::Electron%20Transport%20System%20and%20ATP%20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xygen is present, the pyruvate molecules are transported from the cytoplasm into the mitochondrial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087640"/>
            <a:ext cx="380988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2880" y="1981080"/>
            <a:ext cx="751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enzyme-catalyzed cha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decarboxylation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forming CO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as a by-produ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oxidation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of the 2-carbon molecule, causing a reduction of NAD</a:t>
            </a:r>
            <a:r>
              <a:rPr b="0" lang="en-CA" sz="3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to NAD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attachment of coenzyme A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(a derivative of vitamin B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), forming acetyl-Co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br>
              <a:rPr sz="4400"/>
            </a:b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ourse1.winona.edu/kbates/Bio241/cellresp03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biology200.gsu.edu/houghton/2107%20'07/Figures/Chapter7/figure7.8.jpg"/>
          <p:cNvPicPr/>
          <p:nvPr/>
        </p:nvPicPr>
        <p:blipFill>
          <a:blip r:embed="rId1"/>
          <a:stretch/>
        </p:blipFill>
        <p:spPr>
          <a:xfrm>
            <a:off x="785880" y="1643040"/>
            <a:ext cx="73184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Also known as the Krebs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8 enzyme-catalyzed re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occurs in the mitochondrial matri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aerobic proce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cyclic process: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xaloaceta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reactant of the first reaction and product of the last re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cetyl CoA (2C) reacts with oxaloacetate (4C) to produce citrate (6C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oA is relea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://web.virginia.edu/Heidi/chapter20/Images/8883n20_05.jpg"/>
          <p:cNvPicPr/>
          <p:nvPr/>
        </p:nvPicPr>
        <p:blipFill>
          <a:blip r:embed="rId1"/>
          <a:stretch/>
        </p:blipFill>
        <p:spPr>
          <a:xfrm>
            <a:off x="966960" y="4114800"/>
            <a:ext cx="7210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5:17:26Z</dcterms:created>
  <dc:creator>rubina khan</dc:creator>
  <dc:description/>
  <dc:language>en-US</dc:language>
  <cp:lastModifiedBy>rubina khan</cp:lastModifiedBy>
  <dcterms:modified xsi:type="dcterms:W3CDTF">2012-03-23T10:24:10Z</dcterms:modified>
  <cp:revision>59</cp:revision>
  <dc:subject/>
  <dc:title>Aerobic Cellular Respiration</dc:title>
</cp:coreProperties>
</file>